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76727-AEF2-4788-8795-F475C0527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F4CDD-A146-4E27-9529-8C25D1FE6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04E62-24D8-4AF8-B6CC-585B170BB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C08AB-7A20-4D08-8BC8-951D1257C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D03EF-91DA-40ED-9CDD-116651F16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C344A-DB7E-4E96-AD0E-6B312349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9ED1E-49EA-4C53-9FA0-47F7B5699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0B07-65C2-4C03-A854-BA9954437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085FE-F62B-4583-88E5-DA4FC008A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B4A97-DD09-41A1-85CB-2A136129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7965F-6E3A-46BA-9073-C38AE771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32995-6F58-4078-8988-4E95FFB53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7FCB-5A35-40B2-9BF6-78FB47D4F5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41"/>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7">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fade" transition="in">
                                      <p:cBhvr additive="repl">
                                        <p:cTn id="11" dur="1000"/>
                                        <p:tgtEl>
                                          <p:spTgt spid="42">
                                            <p:txEl>
                                              <p:pRg st="0" end="0"/>
                                            </p:txEl>
                                          </p:spTgt>
                                        </p:tgtEl>
                                      </p:cBhvr>
                                    </p:animEffect>
                                    <p:anim calcmode="lin" valueType="num">
                                      <p:cBhvr additive="repl">
                                        <p:cTn id="12"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3" dur="898"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Picture 10" descr=""/>
          <p:cNvPicPr/>
          <p:nvPr/>
        </p:nvPicPr>
        <p:blipFill>
          <a:blip r:embed="rId1"/>
          <a:stretch/>
        </p:blipFill>
        <p:spPr>
          <a:xfrm>
            <a:off x="5214960" y="928800"/>
            <a:ext cx="1440000" cy="1439640"/>
          </a:xfrm>
          <a:prstGeom prst="rect">
            <a:avLst/>
          </a:prstGeom>
          <a:ln w="0">
            <a:noFill/>
          </a:ln>
        </p:spPr>
      </p:pic>
    </p:spTree>
  </p:cSld>
  <p:transition spd="med">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cc"/>
            </a:gs>
            <a:gs pos="100000">
              <a:srgbClr val="75175e"/>
            </a:gs>
          </a:gsLst>
          <a:lin ang="5400000"/>
        </a:gra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p:transition spd="med">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9</cp:lastModifiedBy>
  <dcterms:modified xsi:type="dcterms:W3CDTF">2004-10-29T01:48:12Z</dcterms:modified>
  <cp:revision>49</cp:revision>
  <dc:subject/>
  <dc:title>SALARIUL</dc:title>
</cp:coreProperties>
</file>